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5.jpeg" ContentType="image/jpeg"/>
  <Override PartName="/ppt/media/image13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projctor.wav" ContentType="audio/x-wav"/>
  <Override PartName="/ppt/media/image9.png" ContentType="image/png"/>
  <Override PartName="/ppt/media/image3.jpeg" ContentType="image/jpeg"/>
  <Override PartName="/ppt/media/image4.png" ContentType="image/png"/>
  <Override PartName="/ppt/media/camera.wav" ContentType="audio/x-wav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D095-758D-477C-91D9-51905B7A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04FC-2BCD-400B-ACCE-B1A8F0D0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665-0C75-4FEE-AD5C-2332E3E0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FFC-8C83-467B-A596-A772C9D0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8A6-FCA1-432F-89CB-94FCC117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212-9202-4C43-9776-381F947F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EBC5-4B0C-46C8-8FD2-049ACAEE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8FF-EBC9-411D-9816-9C5AA43D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5FF6-E2BB-4F11-9BB3-5B6126C4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D34-06C4-459A-BE41-6061A4A1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6A0-D7B7-4773-8655-CAF00F70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220C-ADBE-49F1-9387-E16472F0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C24E-C1B0-4B6F-A822-8C555FFDBB97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EEF8-8C70-41DC-A746-088AC5D3F83A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260280"/>
            <a:ext cx="69134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</a:rPr>
              <a:t>自古进谏知多少？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684360" y="907920"/>
            <a:ext cx="75596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自古以来，很多谋臣良将，出于对国家尽责，对国君尽忠的赤诚之心，劝国君改正过失，冒死进谏，但大多因批龙鳞，逆圣听，而惨遭杀身之祸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84360" y="2924280"/>
            <a:ext cx="698472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屈原：向楚怀王进谏，提出治理国家的建议被奸臣嫉恨，遭放逐，最后投汨罗江而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755640" y="4365720"/>
            <a:ext cx="74167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比干：纣王不耐烦他提意见，剖腹挖心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755640" y="5084640"/>
            <a:ext cx="74898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伍子胥：建议吴王夫差杀掉勾践屡遭拒绝，引剑自刎，临终前要求把头颅挂在城门上，亲眼看勾践东山再起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楷体"/>
                <a:ea typeface="楷体"/>
              </a:rPr>
              <a:t>正音   听范读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ject 6" descr=""/>
          <p:cNvPicPr/>
          <p:nvPr/>
        </p:nvPicPr>
        <p:blipFill>
          <a:blip r:embed="rId1"/>
          <a:stretch/>
        </p:blipFill>
        <p:spPr>
          <a:xfrm>
            <a:off x="1457280" y="2133720"/>
            <a:ext cx="622764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"/>
          <p:cNvPicPr/>
          <p:nvPr/>
        </p:nvPicPr>
        <p:blipFill>
          <a:blip r:embed="rId1"/>
          <a:srcRect l="0" t="18525" r="0" b="15235"/>
          <a:stretch/>
        </p:blipFill>
        <p:spPr>
          <a:xfrm>
            <a:off x="324000" y="1341360"/>
            <a:ext cx="8351640" cy="4680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邹忌问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5280" y="406080"/>
            <a:ext cx="8685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面对妻、妾、客的不同程度的赞美，邹忌从“不自信”到“暮寝而思之”，反映出他怎样的品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答：不盲目轻信，对别人的褒奖能理智判断、冷静思考，能正视自己。（围绕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自知之明，善于思考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”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针对邹忌“我孰与城北徐公美？”的问题，妻、妾、客的回答有什么异同？试结合具体的语句分析说明不同在哪里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1515"/>
                </a:solidFill>
                <a:latin typeface="Arial"/>
              </a:rPr>
              <a:t>答：相同点：赞扬邹忌比徐公美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1515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71515"/>
                </a:solidFill>
                <a:latin typeface="Arial"/>
              </a:rPr>
              <a:t>不同点：妻子热情赞扬邹忌，反映了妻的偏爱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（如“君美甚，徐公何能及君也！”）；</a:t>
            </a:r>
            <a:r>
              <a:rPr b="1" lang="zh-CN" sz="2800" spc="-1" strike="noStrike">
                <a:solidFill>
                  <a:srgbClr val="f71515"/>
                </a:solidFill>
                <a:latin typeface="Arial"/>
              </a:rPr>
              <a:t>妾在家中的地位卑微，因为怕，回答比较敷衍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（如“徐公何能及君也”）；</a:t>
            </a:r>
            <a:r>
              <a:rPr b="1" lang="zh-CN" sz="2800" spc="-1" strike="noStrike">
                <a:solidFill>
                  <a:srgbClr val="f71515"/>
                </a:solidFill>
                <a:latin typeface="Arial"/>
              </a:rPr>
              <a:t>客因为他的主要目的是有事相求，所以回答用了一个陈述句，比妾的反问句，语气更轻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（如：“徐公不若君之美也”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rcRect l="0" t="18495" r="0" b="15347"/>
          <a:stretch/>
        </p:blipFill>
        <p:spPr>
          <a:xfrm>
            <a:off x="395280" y="1341360"/>
            <a:ext cx="8209080" cy="4680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60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邹忌问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5C90-8046-4577-A8FA-B459772F88E9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rcRect l="0" t="14933" r="0" b="13309"/>
          <a:stretch/>
        </p:blipFill>
        <p:spPr>
          <a:xfrm>
            <a:off x="395280" y="1773360"/>
            <a:ext cx="8064360" cy="431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徐公来，孰视之，自以为不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4C68-F9DF-4487-B537-BBCEE7EE62EF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4CD4-3A38-4380-88AE-410B0485A81C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rcRect l="0" t="15347" r="0" b="13244"/>
          <a:stretch/>
        </p:blipFill>
        <p:spPr>
          <a:xfrm>
            <a:off x="0" y="1700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20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窥镜而自视，又弗如远甚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47DE-FCC8-4D2C-863F-61F68D992434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4560" y="259920"/>
            <a:ext cx="8891640" cy="61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邹忌认为“王之蔽甚矣”的原因是什么？请用自己的话简要概括。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1515"/>
                </a:solidFill>
                <a:latin typeface="楷体"/>
                <a:ea typeface="楷体"/>
              </a:rPr>
              <a:t>答：因为齐王身边的人阿谀奉承（私王、畏王、有求于王），不可能听到真实的情况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“今齐地方千里，百二十城，宫妇左右莫不私王，朝廷之臣莫不畏王，四境之内莫不有求于王。由此观之，王之蔽甚矣。”在表达上的有什么作用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1515"/>
                </a:solidFill>
                <a:latin typeface="楷体"/>
                <a:ea typeface="楷体"/>
              </a:rPr>
              <a:t>答：使用排比句，营造了一种步步逼近的语势，一环扣一环，给人以无可辩驳的感觉，有力地论证了中心论点。（从语势与论证关系上谈即可）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"/>
          <p:cNvPicPr/>
          <p:nvPr/>
        </p:nvPicPr>
        <p:blipFill>
          <a:blip r:embed="rId1"/>
          <a:srcRect l="0" t="15439" r="0" b="15143"/>
          <a:stretch/>
        </p:blipFill>
        <p:spPr>
          <a:xfrm>
            <a:off x="395280" y="1773360"/>
            <a:ext cx="8353440" cy="4319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入朝见威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FA47-D2FE-4A9C-8281-5DAEC28D8D55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rcRect l="0" t="15012" r="0" b="15406"/>
          <a:stretch/>
        </p:blipFill>
        <p:spPr>
          <a:xfrm>
            <a:off x="250920" y="1628640"/>
            <a:ext cx="8208720" cy="453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784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门庭若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9EF8-27E9-48DA-A766-A931F292C640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540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“王曰‘善’。”请你结合文意品析“善”字的表达作用。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答：一是说明邹忌艺术的进谏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起到了良好的效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；二是说明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齐威王善于纳谏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齐威王下令后，进谏者由“门庭若市”到“时时而渐进”，再到“无可进者”，这种变化说明了什么？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答：齐王纳谏后，朝政的弊端越来越少。（或齐王纳谏后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需要改进的地方越来越少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 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04920" y="1295280"/>
            <a:ext cx="87627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以铜为镜，可以正衣冠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以史为镜，可以知兴替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以人为镜，可以明得失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114800" y="533412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唐太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"/>
          <p:cNvPicPr/>
          <p:nvPr/>
        </p:nvPicPr>
        <p:blipFill>
          <a:blip r:embed="rId1"/>
          <a:srcRect l="0" t="16411" r="0" b="14308"/>
          <a:stretch/>
        </p:blipFill>
        <p:spPr>
          <a:xfrm>
            <a:off x="395280" y="1557360"/>
            <a:ext cx="8497800" cy="45356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战胜于朝廷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7F48-216E-427F-B3E2-A345D81205E5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7152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“此所谓战胜于朝廷”中的“此”指代什么？“战胜于朝廷”的意思是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答：“此”指代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“燕、赵、韩、魏闻之，皆朝于齐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这种情况。“战胜于朝廷”是指内政修明，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不必用兵就能使别的国家畏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俗话说：“良药苦口利于病，忠言逆耳利于行”。本文中的邹忌的忠言并不逆耳，齐威王痛快地接受了你怎样看待这一问题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答：劝诫别人要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看对象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有人适合听顺耳之言，有人则非逆耳之言不起作用，但在多数情况下，我们一定要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讲究劝诫方式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既然是给别人提建议或意见，又希望被别人接受，最好选择一种让人愉快的方式，因而忠言未必逆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请简要分析文中两个人物的形象特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答：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邹忌：（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）能保持清醒的头脑，发现问题并分析思索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）在政治上有除弊革新的责任感，敢于坚持真理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）有善于运用能启发人、使人容易接受的方式，摆事实，讲道理，说服对方。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、齐威王：心胸宽阔，气度宏大，知错能改的贤明君主。有革除弊端、改良政治的迫切愿望和巨大的决心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中国历史上不乏忠臣进谏的故事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但他们的命运却各不相同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458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"/>
                <a:ea typeface="楷体"/>
              </a:rPr>
              <a:t>比干劝商纣王不要沉湎酒色而被挖心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"/>
                <a:ea typeface="楷体"/>
              </a:rPr>
              <a:t>屈原劝楚怀王连齐抗秦而被放逐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"/>
                <a:ea typeface="楷体"/>
              </a:rPr>
              <a:t>吴子胥劝夫差不要轻信勾践而被杀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"/>
                <a:ea typeface="楷体"/>
              </a:rPr>
              <a:t>白居易因直言极谏，贬江州司马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"/>
                <a:ea typeface="楷体"/>
              </a:rPr>
              <a:t>韩愈谏迎佛骨，“一封朝奏九重天，夕贬潮州路八千”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  <a:ea typeface="楷体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但邹忌劝谏齐威王却收到了很好的成效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这是什么原因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11A5-4DB2-4CF3-9130-B4366FF3FE79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2"/>
          <p:cNvSpPr/>
          <p:nvPr/>
        </p:nvSpPr>
        <p:spPr>
          <a:xfrm>
            <a:off x="0" y="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1" y="136"/>
                </a:ln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22400" y="411120"/>
            <a:ext cx="8893080" cy="6024600"/>
          </a:xfrm>
          <a:prstGeom prst="rect">
            <a:avLst/>
          </a:prstGeom>
          <a:noFill/>
          <a:ln w="0">
            <a:solidFill>
              <a:srgbClr val="9900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WordArt 8" descr=""/>
          <p:cNvPicPr/>
          <p:nvPr/>
        </p:nvPicPr>
        <p:blipFill>
          <a:blip r:embed="rId1"/>
          <a:stretch/>
        </p:blipFill>
        <p:spPr>
          <a:xfrm>
            <a:off x="534960" y="760320"/>
            <a:ext cx="1306440" cy="4637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0"/>
          <p:cNvSpPr/>
          <p:nvPr/>
        </p:nvSpPr>
        <p:spPr>
          <a:xfrm>
            <a:off x="2340000" y="54936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设喻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设置或借用一个寓言、故事或自然现象来说明一个抽象的道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2268360" y="2349360"/>
            <a:ext cx="60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方式一：设置一个故事来说明一个道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2"/>
          <p:cNvSpPr/>
          <p:nvPr/>
        </p:nvSpPr>
        <p:spPr>
          <a:xfrm>
            <a:off x="2268360" y="357336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方式二：借用乙事物比方甲事物来说明一个二者共同蕴涵的道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reeform 2"/>
          <p:cNvSpPr/>
          <p:nvPr/>
        </p:nvSpPr>
        <p:spPr>
          <a:xfrm>
            <a:off x="0" y="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1" y="136"/>
                </a:ln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22400" y="411120"/>
            <a:ext cx="8893080" cy="6024600"/>
          </a:xfrm>
          <a:prstGeom prst="rect">
            <a:avLst/>
          </a:prstGeom>
          <a:noFill/>
          <a:ln w="0">
            <a:solidFill>
              <a:srgbClr val="9900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340000" y="907920"/>
            <a:ext cx="251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邹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268360" y="1700280"/>
            <a:ext cx="125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2268360" y="2492280"/>
            <a:ext cx="107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1979640" y="3500280"/>
            <a:ext cx="179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6056280" y="1628640"/>
            <a:ext cx="30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宫妇左右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6084720" y="2492280"/>
            <a:ext cx="272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朝廷之臣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6084720" y="3429000"/>
            <a:ext cx="28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四境之内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940360" y="83664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齐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4140360" y="24940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211640" y="162864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995640" y="35002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有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2"/>
          <p:cNvSpPr/>
          <p:nvPr/>
        </p:nvSpPr>
        <p:spPr>
          <a:xfrm flipV="1">
            <a:off x="2987640" y="2060640"/>
            <a:ext cx="1152720" cy="1728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3"/>
          <p:cNvSpPr/>
          <p:nvPr/>
        </p:nvSpPr>
        <p:spPr>
          <a:xfrm flipH="1">
            <a:off x="5003280" y="2060640"/>
            <a:ext cx="1150920" cy="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2987640" y="2852640"/>
            <a:ext cx="1152720" cy="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5"/>
          <p:cNvSpPr/>
          <p:nvPr/>
        </p:nvSpPr>
        <p:spPr>
          <a:xfrm flipH="1">
            <a:off x="5003280" y="2852640"/>
            <a:ext cx="1150920" cy="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6"/>
          <p:cNvSpPr/>
          <p:nvPr/>
        </p:nvSpPr>
        <p:spPr>
          <a:xfrm>
            <a:off x="2987640" y="3933720"/>
            <a:ext cx="1079640" cy="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7"/>
          <p:cNvSpPr/>
          <p:nvPr/>
        </p:nvSpPr>
        <p:spPr>
          <a:xfrm flipH="1">
            <a:off x="5076360" y="3860640"/>
            <a:ext cx="1079640" cy="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1908000" y="4365720"/>
            <a:ext cx="319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受蒙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9"/>
          <p:cNvSpPr/>
          <p:nvPr/>
        </p:nvSpPr>
        <p:spPr>
          <a:xfrm>
            <a:off x="6156360" y="4292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受蒙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4059720" y="4221000"/>
            <a:ext cx="16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类比推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委婉劝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WordArt 34" descr=""/>
          <p:cNvPicPr/>
          <p:nvPr/>
        </p:nvPicPr>
        <p:blipFill>
          <a:blip r:embed="rId1"/>
          <a:stretch/>
        </p:blipFill>
        <p:spPr>
          <a:xfrm>
            <a:off x="390600" y="760320"/>
            <a:ext cx="1305000" cy="463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252720" y="1773360"/>
            <a:ext cx="878508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楷体"/>
                <a:ea typeface="楷体"/>
              </a:rPr>
              <a:t>赏析文章美点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73120" y="330120"/>
            <a:ext cx="71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再读课文，鉴赏品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80880" y="9795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"/>
                <a:ea typeface="楷体"/>
              </a:rPr>
              <a:t>本文篇幅短小，妙趣横生，采用了一种奇特的三叠排比的结构样式，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找出本文的“三”</a:t>
            </a:r>
            <a:r>
              <a:rPr b="0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28600" y="54864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  <a:ea typeface="楷体"/>
              </a:rPr>
              <a:t>前后呼应，上下关照，层层推进，句      式整散错落有致，读来琅琅上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1371600" y="2092320"/>
            <a:ext cx="7010280" cy="3165480"/>
            <a:chOff x="1371600" y="2092320"/>
            <a:chExt cx="7010280" cy="3165480"/>
          </a:xfrm>
        </p:grpSpPr>
        <p:sp>
          <p:nvSpPr>
            <p:cNvPr id="147" name="Rectangle 6"/>
            <p:cNvSpPr/>
            <p:nvPr/>
          </p:nvSpPr>
          <p:spPr>
            <a:xfrm>
              <a:off x="1676520" y="2092320"/>
              <a:ext cx="670536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邹忌三问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妻、妾、客的三答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邹忌解蔽的三思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入朝见威王的三比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齐威王鼓励纳谏的三赏（令）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纳赏后齐国的三变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371600" y="2362320"/>
              <a:ext cx="228600" cy="28954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75240 h 2895480"/>
                <a:gd name="textAreaBottom" fmla="*/ 282024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  <p:sndAc>
      <p:stSnd>
        <p:snd r:embed="rId2" name="projctor.wav"/>
      </p:stSnd>
    </p:sndAc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邹忌有三问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问其妻：“我孰与成北徐公美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问其妾：“吾孰与徐公美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问其客：“吾与徐公孰美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其妻、妾、客先后有三答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君美甚，徐公何能及君也！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徐公何能及君也！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徐公不若君之美也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邹忌解蔽，当晚有三思 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吾妻之美我者，私我也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妾之美，畏我也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客之美我者，欲有求于我也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369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邹忌入朝见威王，有三比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04920" y="174132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臣之妻私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00" y="2655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臣之妾畏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52280" y="3600360"/>
            <a:ext cx="47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臣之客欲有求于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257800" y="166536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宫妇左右莫不私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257800" y="2655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朝廷之臣莫不畏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952880" y="35053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四境之内莫不有求于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143000" y="5475240"/>
            <a:ext cx="72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结论：由此观之，王之蔽甚矣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2590920" y="1969920"/>
            <a:ext cx="2286000" cy="76320"/>
          </a:xfrm>
          <a:prstGeom prst="rightArrow">
            <a:avLst>
              <a:gd name="adj1" fmla="val 50000"/>
              <a:gd name="adj2" fmla="val 7488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2590920" y="2960640"/>
            <a:ext cx="2438280" cy="152280"/>
          </a:xfrm>
          <a:prstGeom prst="rightArrow">
            <a:avLst>
              <a:gd name="adj1" fmla="val 50000"/>
              <a:gd name="adj2" fmla="val 400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2"/>
          <p:cNvSpPr/>
          <p:nvPr/>
        </p:nvSpPr>
        <p:spPr>
          <a:xfrm>
            <a:off x="3581280" y="3722760"/>
            <a:ext cx="1219320" cy="228600"/>
          </a:xfrm>
          <a:prstGeom prst="rightArrow">
            <a:avLst>
              <a:gd name="adj1" fmla="val 50000"/>
              <a:gd name="adj2" fmla="val 1332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3200400" y="433224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 flipH="1">
            <a:off x="4495680" y="4255920"/>
            <a:ext cx="609840" cy="10670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000"/>
                            </p:stCondLst>
                            <p:childTnLst>
                              <p:par>
                                <p:cTn id="585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117000"/>
            <a:ext cx="84247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唐太宗李世民对敢于直谏的魏征的一句评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铜为镜，可以正衣冠；以史为镜，可以知兴亡；以人为镜，可以明得失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历代君主要成就一番霸业，身边没有几位敢进谏言的大臣是不成的；而劝谏能否奏效，一要看做君王的是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贤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二要看谏者是否注意了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进谏的艺术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“良药”既“爽于口”，又“利于病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11280" y="4365720"/>
            <a:ext cx="43196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战国时齐威王非常幸运遇到了这样一位贤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——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邹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对话"/>
          <p:cNvPicPr/>
          <p:nvPr/>
        </p:nvPicPr>
        <p:blipFill>
          <a:blip r:embed="rId1"/>
          <a:stretch/>
        </p:blipFill>
        <p:spPr>
          <a:xfrm>
            <a:off x="5292720" y="4149720"/>
            <a:ext cx="382572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523880" y="533520"/>
            <a:ext cx="617220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齐王纳谏，下令有三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面刺        上赏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书谏         中赏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谤讥         下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219320" y="3657600"/>
            <a:ext cx="754380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纳谏之后，齐国有三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           门庭 若市；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月        间进；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期年       无可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609480" y="325440"/>
            <a:ext cx="82296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也许是无意为之的巧合，作者把整个故事组成了“三叠排比”的奇特结构，叙事如江水东下，十分畅达，并且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前后呼应，上下关照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使文章具有一线贯穿、晓畅淋漓的特点。这样的结构，不仅使文章从全文来看有一种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整齐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美，而且使其内在韵律有一种进行曲般的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节奏美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这样写，看来有些过于理想化，但仔细斟酌，却又完全合乎事理，合乎发展规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11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28000" cy="4273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1080" y="981000"/>
            <a:ext cx="71629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邹忌讽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齐王纳谏</a:t>
            </a:r>
            <a:br>
              <a:rPr sz="6600"/>
            </a:b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战国策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902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e6b70"/>
                </a:solidFill>
                <a:latin typeface="楷体"/>
                <a:ea typeface="楷体"/>
              </a:rPr>
              <a:t>出处：</a:t>
            </a:r>
            <a:r>
              <a:rPr b="1" lang="en-US" sz="4800" spc="-1" strike="noStrike">
                <a:solidFill>
                  <a:srgbClr val="990000"/>
                </a:solidFill>
                <a:latin typeface="楷体"/>
                <a:ea typeface="楷体"/>
              </a:rPr>
              <a:t>《</a:t>
            </a:r>
            <a:r>
              <a:rPr b="1" lang="zh-CN" sz="4800" spc="-1" strike="noStrike">
                <a:solidFill>
                  <a:srgbClr val="990000"/>
                </a:solidFill>
                <a:latin typeface="楷体"/>
                <a:ea typeface="楷体"/>
              </a:rPr>
              <a:t>战国策</a:t>
            </a:r>
            <a:r>
              <a:rPr b="1" lang="en-US" sz="4800" spc="-1" strike="noStrike">
                <a:solidFill>
                  <a:srgbClr val="990000"/>
                </a:solidFill>
                <a:latin typeface="楷体"/>
                <a:ea typeface="楷体"/>
              </a:rPr>
              <a:t>》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楷体"/>
                <a:ea typeface="楷体"/>
              </a:rPr>
              <a:t>《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战国策</a:t>
            </a:r>
            <a:r>
              <a:rPr b="1" lang="en-US" sz="4000" spc="-1" strike="noStrike">
                <a:solidFill>
                  <a:srgbClr val="333399"/>
                </a:solidFill>
                <a:latin typeface="楷体"/>
                <a:ea typeface="楷体"/>
              </a:rPr>
              <a:t>》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又叫</a:t>
            </a:r>
            <a:r>
              <a:rPr b="1" lang="en-US" sz="4000" spc="-1" strike="noStrike">
                <a:solidFill>
                  <a:srgbClr val="333399"/>
                </a:solidFill>
                <a:latin typeface="楷体"/>
                <a:ea typeface="楷体"/>
              </a:rPr>
              <a:t>《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国策</a:t>
            </a:r>
            <a:r>
              <a:rPr b="1" lang="en-US" sz="4000" spc="-1" strike="noStrike">
                <a:solidFill>
                  <a:srgbClr val="333399"/>
                </a:solidFill>
                <a:latin typeface="楷体"/>
                <a:ea typeface="楷体"/>
              </a:rPr>
              <a:t>》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， 是记载战国历史的</a:t>
            </a:r>
            <a:r>
              <a:rPr b="1" lang="zh-CN" sz="4000" spc="-1" strike="noStrike">
                <a:solidFill>
                  <a:srgbClr val="ff6600"/>
                </a:solidFill>
                <a:latin typeface="楷体"/>
                <a:ea typeface="楷体"/>
              </a:rPr>
              <a:t>国别体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史书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西汉末年，</a:t>
            </a:r>
            <a:r>
              <a:rPr b="1" lang="zh-CN" sz="4000" spc="-1" strike="noStrike">
                <a:solidFill>
                  <a:srgbClr val="ff6600"/>
                </a:solidFill>
                <a:latin typeface="楷体"/>
                <a:ea typeface="楷体"/>
              </a:rPr>
              <a:t>刘向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根据战国时事的记录整理而成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1920" y="480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e6b70"/>
                </a:solidFill>
                <a:latin typeface="楷体"/>
                <a:ea typeface="楷体"/>
              </a:rPr>
              <a:t>关于</a:t>
            </a:r>
            <a:r>
              <a:rPr b="1" lang="en-US" sz="4400" spc="-1" strike="noStrike">
                <a:solidFill>
                  <a:srgbClr val="2e6b70"/>
                </a:solidFill>
                <a:latin typeface="楷体"/>
                <a:ea typeface="楷体"/>
              </a:rPr>
              <a:t>《</a:t>
            </a:r>
            <a:r>
              <a:rPr b="1" lang="zh-CN" sz="4400" spc="-1" strike="noStrike">
                <a:solidFill>
                  <a:srgbClr val="2e6b70"/>
                </a:solidFill>
                <a:latin typeface="楷体"/>
                <a:ea typeface="楷体"/>
              </a:rPr>
              <a:t>战国策</a:t>
            </a:r>
            <a:r>
              <a:rPr b="1" lang="en-US" sz="4400" spc="-1" strike="noStrike">
                <a:solidFill>
                  <a:srgbClr val="2e6b70"/>
                </a:solidFill>
                <a:latin typeface="楷体"/>
                <a:ea typeface="楷体"/>
              </a:rPr>
              <a:t>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67616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战国策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分为东周、西周、秦、齐、楚、赵、魏、韩、燕、宋、卫、中山等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国国策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记载公元前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453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前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09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共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45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史实。是研究战国时期历史的重要资料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ff6600"/>
                </a:solidFill>
                <a:latin typeface="楷体"/>
                <a:ea typeface="楷体"/>
              </a:rPr>
              <a:t>战国”一词，即源于此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57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e6b70"/>
                </a:solidFill>
                <a:latin typeface="楷体"/>
                <a:ea typeface="楷体"/>
              </a:rPr>
              <a:t>关于刘向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523880"/>
            <a:ext cx="813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刘向（约前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77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前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）本名更生，字子政，沛（今江苏沛县）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西汉经学家、目录学家、文学家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刘向一生著述颇丰，对保存我国古籍文献做出过重要贡献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他留下了多少部历史、文学名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战国策</a:t>
            </a:r>
            <a:r>
              <a:rPr b="1" lang="en-US" sz="3600" spc="-1" strike="noStrike">
                <a:solidFill>
                  <a:srgbClr val="0033cc"/>
                </a:solidFill>
                <a:latin typeface="楷体"/>
                <a:ea typeface="楷体"/>
              </a:rPr>
              <a:t>》《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说苑</a:t>
            </a:r>
            <a:r>
              <a:rPr b="1" lang="en-US" sz="3600" spc="-1" strike="noStrike">
                <a:solidFill>
                  <a:srgbClr val="0033cc"/>
                </a:solidFill>
                <a:latin typeface="楷体"/>
                <a:ea typeface="楷体"/>
              </a:rPr>
              <a:t>》《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列女传</a:t>
            </a:r>
            <a:r>
              <a:rPr b="1" lang="en-US" sz="3600" spc="-1" strike="noStrike">
                <a:solidFill>
                  <a:srgbClr val="0033cc"/>
                </a:solidFill>
                <a:latin typeface="楷体"/>
                <a:ea typeface="楷体"/>
              </a:rPr>
              <a:t>》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2"/>
          <p:cNvSpPr/>
          <p:nvPr/>
        </p:nvSpPr>
        <p:spPr>
          <a:xfrm>
            <a:off x="4140360" y="1052640"/>
            <a:ext cx="718920" cy="1008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5869080" y="1052640"/>
            <a:ext cx="718920" cy="1008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195640" y="112536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邹忌讽    纳谏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4746600" y="1255680"/>
            <a:ext cx="16257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齐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786960" y="2133720"/>
            <a:ext cx="68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题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124000" y="328464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讽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讽谏，用暗示、比喻之类的方法，委婉地规劝。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用含蓄的话劝说或指责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979640" y="537372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纳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接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2176560" y="2570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886320" y="404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解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176560" y="285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366280" y="2492280"/>
            <a:ext cx="456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邹 忌 讽 齐 王 纳 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7"/>
          <p:cNvSpPr/>
          <p:nvPr/>
        </p:nvSpPr>
        <p:spPr>
          <a:xfrm>
            <a:off x="1332000" y="3500280"/>
            <a:ext cx="460836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>
            <a:off x="4425840" y="3716280"/>
            <a:ext cx="345780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4211640" y="2421000"/>
            <a:ext cx="1800360" cy="1081080"/>
          </a:xfrm>
          <a:prstGeom prst="wedgeRectCallout">
            <a:avLst>
              <a:gd name="adj1" fmla="val -23282"/>
              <a:gd name="adj2" fmla="val 49263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4932360" y="3500280"/>
            <a:ext cx="360360" cy="1081080"/>
          </a:xfrm>
          <a:prstGeom prst="downArrow">
            <a:avLst>
              <a:gd name="adj1" fmla="val 50000"/>
              <a:gd name="adj2" fmla="val 74972"/>
            </a:avLst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1698120" y="436572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邹 忌 讽 齐 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6111360" y="4365720"/>
            <a:ext cx="195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齐 王 纳 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4932360" y="1413000"/>
            <a:ext cx="360360" cy="1008000"/>
          </a:xfrm>
          <a:prstGeom prst="upArrow">
            <a:avLst>
              <a:gd name="adj1" fmla="val 50000"/>
              <a:gd name="adj2" fmla="val 69904"/>
            </a:avLst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652640" y="5796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兼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4286880" y="54705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兼语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4T10:47:17Z</dcterms:created>
  <dc:creator/>
  <dc:description>版权所有：张国生 不经授权，不得复制</dc:description>
  <dc:language>en-US</dc:language>
  <cp:lastModifiedBy>Administrator</cp:lastModifiedBy>
  <dcterms:modified xsi:type="dcterms:W3CDTF">2017-12-12T03:36:40Z</dcterms:modified>
  <cp:revision>104</cp:revision>
  <dc:subject/>
  <dc:title>邹忌讽齐王纳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7</vt:lpwstr>
  </property>
</Properties>
</file>